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6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5F3F-D454-4BBD-85A7-97DAA36E38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652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742E-5259-410B-9A5A-EAEA5E81F70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192-1F2E-4248-9A05-E14F875F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C5C-E1A2-4910-9EE6-8E5995D1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711-2C29-4F56-97DD-89C5C847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14A-924C-48DC-9E5C-8A89E9D5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822-7A8D-43E3-8542-729CF68F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614-4871-4620-AC97-BC4811BC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CB1-9140-4BEE-9EFC-AD6AE96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FEA-E451-4D44-84EA-A91E2C08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5280"/>
            <a:ext cx="6175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5B8-59EC-47B3-9BEB-9EC20EE7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356-B4C1-4BE8-9725-E12A2D3A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F53-2251-4A91-B388-B402BE96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D3E-0CEC-43F7-ABE2-28FFD78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52894F-16C1-4876-A969-DA68BF9A184D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41720" y="6537240"/>
            <a:ext cx="3403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516480" y="5964120"/>
            <a:ext cx="3341520" cy="38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lezione di 28 componenti del CNSU iscritti ad un corso di laurea,  di laurea magistrale, di laurea magistrale a ciclo unico o a corsi di laurea di precedenti ordina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iversità degli Studi di…….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de di……..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ggio N°…….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rma del Presiden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>
            <a:off x="189000" y="8985240"/>
            <a:ext cx="2171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2"/>
          <p:cNvSpPr/>
          <p:nvPr/>
        </p:nvSpPr>
        <p:spPr>
          <a:xfrm>
            <a:off x="4231440" y="41580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es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e 1"/>
          <p:cNvSpPr/>
          <p:nvPr/>
        </p:nvSpPr>
        <p:spPr>
          <a:xfrm>
            <a:off x="293760" y="4761000"/>
            <a:ext cx="576360" cy="576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egnaposto piè di pagina 1"/>
          <p:cNvSpPr/>
          <p:nvPr/>
        </p:nvSpPr>
        <p:spPr>
          <a:xfrm>
            <a:off x="485640" y="8842320"/>
            <a:ext cx="217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"/>
          <p:cNvSpPr/>
          <p:nvPr/>
        </p:nvSpPr>
        <p:spPr>
          <a:xfrm>
            <a:off x="497160" y="3903840"/>
            <a:ext cx="225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mbolo o cas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vuota in caso di assenza di simbo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052640" y="468936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4"/>
          <p:cNvSpPr/>
          <p:nvPr/>
        </p:nvSpPr>
        <p:spPr>
          <a:xfrm rot="10800000">
            <a:off x="3847680" y="468936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"/>
          <p:cNvSpPr/>
          <p:nvPr/>
        </p:nvSpPr>
        <p:spPr>
          <a:xfrm>
            <a:off x="468360" y="8553600"/>
            <a:ext cx="58323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IMO LEMBO DA PIE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4662360" y="1208160"/>
            <a:ext cx="157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in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3"/>
          <p:cNvSpPr/>
          <p:nvPr/>
        </p:nvSpPr>
        <p:spPr>
          <a:xfrm>
            <a:off x="1052640" y="443700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NOMINAZIONE DELLA L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813120" y="443700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OTO DI PREFERENZA PER UN CANDI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1"/>
          <p:cNvSpPr/>
          <p:nvPr/>
        </p:nvSpPr>
        <p:spPr>
          <a:xfrm>
            <a:off x="297000" y="570060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052640" y="560232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"/>
          <p:cNvSpPr/>
          <p:nvPr/>
        </p:nvSpPr>
        <p:spPr>
          <a:xfrm rot="10800000">
            <a:off x="3847680" y="560232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1"/>
          <p:cNvSpPr/>
          <p:nvPr/>
        </p:nvSpPr>
        <p:spPr>
          <a:xfrm>
            <a:off x="297000" y="654516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052640" y="6473880"/>
            <a:ext cx="2663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4"/>
          <p:cNvSpPr/>
          <p:nvPr/>
        </p:nvSpPr>
        <p:spPr>
          <a:xfrm rot="10800000">
            <a:off x="3847680" y="6473520"/>
            <a:ext cx="2825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47:32Z</dcterms:created>
  <dc:creator>Fabrizio</dc:creator>
  <dc:description/>
  <dc:language>en-US</dc:language>
  <cp:lastModifiedBy>HP</cp:lastModifiedBy>
  <cp:lastPrinted>2019-04-08T14:26:55Z</cp:lastPrinted>
  <dcterms:modified xsi:type="dcterms:W3CDTF">2022-02-15T08:24:53Z</dcterms:modified>
  <cp:revision>82</cp:revision>
  <dc:subject/>
  <dc:title>Diapositiva 1</dc:title>
</cp:coreProperties>
</file>